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C5763-47AF-4862-B83B-64580D43F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1BD0D-71C7-4699-B8D5-B5EBF26E8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C195F1-A1D2-4716-9E3E-C37AB60B5C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20607-FD7B-4DE7-BBDC-AC7343ED3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6057FF-EE94-49D5-AFF6-D1E6863009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F4E0A-5398-43EB-ADCE-DB22EC229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10B2B7-74F6-4E79-9701-1DC184099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137145-3A3F-44DB-B352-3038ECDF6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87381-7E64-4304-B2A8-1A3DE56D6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0DC1A-3C36-4D2F-8436-A20A3CF0C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277F5-F825-41D8-804D-753EB197F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5BD81-AA24-47D4-AAD9-C43DE4FDD7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ECC2B-5F88-42C3-B6BB-0A845A4A03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09480" y="38088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was a normal day for Joe and he was partnered with his best Friend Henry on a science project and they where trying to create giant spid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re project was a huge failure and they failed the projec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ry vowed that he would someday create giant spiders.</a:t>
            </a:r>
            <a:endParaRPr b="0" lang="en-US" sz="1800" spc="-1" strike="noStrike">
              <a:solidFill>
                <a:srgbClr val="000000"/>
              </a:solidFill>
              <a:latin typeface="Arial"/>
            </a:endParaRPr>
          </a:p>
        </p:txBody>
      </p:sp>
      <p:pic>
        <p:nvPicPr>
          <p:cNvPr id="42" name="" descr=""/>
          <p:cNvPicPr/>
          <p:nvPr/>
        </p:nvPicPr>
        <p:blipFill>
          <a:blip r:embed="rId1"/>
          <a:stretch/>
        </p:blipFill>
        <p:spPr>
          <a:xfrm>
            <a:off x="609480" y="1600200"/>
            <a:ext cx="7162920" cy="50277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508040" y="493560"/>
            <a:ext cx="7331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oe then called the air force who actually believed him.  They then proceeded to drop a nuclear bomb on the city killing all the giant spiders.  They then took Joe and put him into a facility for the insane because they did not want him telling about this inci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END</a:t>
            </a:r>
            <a:endParaRPr b="0" lang="en-US" sz="1800" spc="-1" strike="noStrike">
              <a:solidFill>
                <a:srgbClr val="000000"/>
              </a:solidFill>
              <a:latin typeface="Arial"/>
            </a:endParaRPr>
          </a:p>
        </p:txBody>
      </p:sp>
      <p:pic>
        <p:nvPicPr>
          <p:cNvPr id="60" name="" descr=""/>
          <p:cNvPicPr/>
          <p:nvPr/>
        </p:nvPicPr>
        <p:blipFill>
          <a:blip r:embed="rId1"/>
          <a:stretch/>
        </p:blipFill>
        <p:spPr>
          <a:xfrm>
            <a:off x="1676520" y="2133720"/>
            <a:ext cx="5790960" cy="43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1066680" y="380880"/>
            <a:ext cx="71629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few years later Henry went missing along with the rest of his family.  It was a huge case and everyone but nobody could figure out what happened.  Joe thought that Henry actually did create giant spiders but he knew better then to tell everyone they would put him in a crazy house.  So he decided to go investigate himself.</a:t>
            </a:r>
            <a:endParaRPr b="0" lang="en-US" sz="1800" spc="-1" strike="noStrike">
              <a:solidFill>
                <a:srgbClr val="000000"/>
              </a:solidFill>
              <a:latin typeface="Arial"/>
            </a:endParaRPr>
          </a:p>
        </p:txBody>
      </p:sp>
      <p:pic>
        <p:nvPicPr>
          <p:cNvPr id="44" name="" descr=""/>
          <p:cNvPicPr/>
          <p:nvPr/>
        </p:nvPicPr>
        <p:blipFill>
          <a:blip r:embed="rId1"/>
          <a:stretch/>
        </p:blipFill>
        <p:spPr>
          <a:xfrm>
            <a:off x="2209680" y="1828800"/>
            <a:ext cx="3600720" cy="4800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143000" y="990720"/>
            <a:ext cx="57308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oe decided that he would check the mountains that overlooked the small town first because he knew that if this was Henry then that would be the first place he would go.  When they where little that’s where they would play so both of them knew the caves in the Mountains inside and out.</a:t>
            </a:r>
            <a:endParaRPr b="0" lang="en-US" sz="1800" spc="-1" strike="noStrike">
              <a:solidFill>
                <a:srgbClr val="000000"/>
              </a:solidFill>
              <a:latin typeface="Arial"/>
            </a:endParaRPr>
          </a:p>
        </p:txBody>
      </p:sp>
      <p:pic>
        <p:nvPicPr>
          <p:cNvPr id="46" name="" descr=""/>
          <p:cNvPicPr/>
          <p:nvPr/>
        </p:nvPicPr>
        <p:blipFill>
          <a:blip r:embed="rId1"/>
          <a:stretch/>
        </p:blipFill>
        <p:spPr>
          <a:xfrm>
            <a:off x="1828800" y="2819520"/>
            <a:ext cx="4978440" cy="347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838080" y="380880"/>
            <a:ext cx="67215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en Joe got there he saw that Henry was in fact the one responsible for this incident and on top of that Henry did not just have five or six spiders but one hundred giant spiders.  They were crawling all over the cave.</a:t>
            </a:r>
            <a:endParaRPr b="0" lang="en-US" sz="1800" spc="-1" strike="noStrike">
              <a:solidFill>
                <a:srgbClr val="000000"/>
              </a:solidFill>
              <a:latin typeface="Arial"/>
            </a:endParaRPr>
          </a:p>
        </p:txBody>
      </p:sp>
      <p:pic>
        <p:nvPicPr>
          <p:cNvPr id="48" name="" descr=""/>
          <p:cNvPicPr/>
          <p:nvPr/>
        </p:nvPicPr>
        <p:blipFill>
          <a:blip r:embed="rId1"/>
          <a:stretch/>
        </p:blipFill>
        <p:spPr>
          <a:xfrm>
            <a:off x="609480" y="1676520"/>
            <a:ext cx="3733920" cy="2627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5800" y="457200"/>
            <a:ext cx="7788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nry stayed just long enough to overhear that the spiders where planning an attack on the town at sundown.  Henry then rushes out of the cave looks at the sun and saw the last bit of it starting to hide below the horizon.</a:t>
            </a:r>
            <a:endParaRPr b="0" lang="en-US" sz="1800" spc="-1" strike="noStrike">
              <a:solidFill>
                <a:srgbClr val="000000"/>
              </a:solidFill>
              <a:latin typeface="Arial"/>
            </a:endParaRPr>
          </a:p>
        </p:txBody>
      </p:sp>
      <p:pic>
        <p:nvPicPr>
          <p:cNvPr id="50" name="" descr=""/>
          <p:cNvPicPr/>
          <p:nvPr/>
        </p:nvPicPr>
        <p:blipFill>
          <a:blip r:embed="rId1"/>
          <a:stretch/>
        </p:blipFill>
        <p:spPr>
          <a:xfrm>
            <a:off x="1828800" y="1752480"/>
            <a:ext cx="5562720" cy="417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990720" y="457200"/>
            <a:ext cx="6949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oe then rushes to his house pulls out his binoculars and looked at the hillside he had just been and saw in terror that the spiders where already halfway to the town.</a:t>
            </a:r>
            <a:endParaRPr b="0" lang="en-US" sz="1800" spc="-1" strike="noStrike">
              <a:solidFill>
                <a:srgbClr val="000000"/>
              </a:solidFill>
              <a:latin typeface="Arial"/>
            </a:endParaRPr>
          </a:p>
        </p:txBody>
      </p:sp>
      <p:pic>
        <p:nvPicPr>
          <p:cNvPr id="52" name="" descr=""/>
          <p:cNvPicPr/>
          <p:nvPr/>
        </p:nvPicPr>
        <p:blipFill>
          <a:blip r:embed="rId1"/>
          <a:stretch/>
        </p:blipFill>
        <p:spPr>
          <a:xfrm>
            <a:off x="2133720" y="1828800"/>
            <a:ext cx="4876560" cy="3657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62120" y="380880"/>
            <a:ext cx="7102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oe then goes to the safest place in the town.  The town mall which has a two inch thick wall to protect the stores inside from burglars.  These walls will now protect him from the giant spiders.</a:t>
            </a:r>
            <a:endParaRPr b="0" lang="en-US" sz="1800" spc="-1" strike="noStrike">
              <a:solidFill>
                <a:srgbClr val="000000"/>
              </a:solidFill>
              <a:latin typeface="Arial"/>
            </a:endParaRPr>
          </a:p>
        </p:txBody>
      </p:sp>
      <p:pic>
        <p:nvPicPr>
          <p:cNvPr id="54" name="" descr=""/>
          <p:cNvPicPr/>
          <p:nvPr/>
        </p:nvPicPr>
        <p:blipFill>
          <a:blip r:embed="rId1"/>
          <a:stretch/>
        </p:blipFill>
        <p:spPr>
          <a:xfrm>
            <a:off x="2438280" y="1752480"/>
            <a:ext cx="4148280" cy="3089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85800" y="838080"/>
            <a:ext cx="73310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Joe then started to realize that the screams of the townspeople where getting louder which meant they where getting closer.  Then they started to bang on the metal barriers.  Joe let them in seeing how he did not have a cell phone and they need a cell phone to call the military and army.  Then he closed the barriers just in time.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56" name="" descr=""/>
          <p:cNvPicPr/>
          <p:nvPr/>
        </p:nvPicPr>
        <p:blipFill>
          <a:blip r:embed="rId1"/>
          <a:stretch/>
        </p:blipFill>
        <p:spPr>
          <a:xfrm>
            <a:off x="2286000" y="2362320"/>
            <a:ext cx="4546440" cy="302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1600200" y="609480"/>
            <a:ext cx="64166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the townspeople that came in started to scramble for weapons or something. So he was not able to tell anyone to call the navy or anything.  Quickly they where overrun and all the people with cell phones died.  The townspeople then quickly charged forwards and broke through the spiders lines recovering a cell phone which Joe picked up.  Joe then proceeded to get into an air vent and get out of the mall.</a:t>
            </a:r>
            <a:endParaRPr b="0" lang="en-US" sz="1800" spc="-1" strike="noStrike">
              <a:solidFill>
                <a:srgbClr val="000000"/>
              </a:solidFill>
              <a:latin typeface="Arial"/>
            </a:endParaRPr>
          </a:p>
        </p:txBody>
      </p:sp>
      <p:pic>
        <p:nvPicPr>
          <p:cNvPr id="58" name="" descr=""/>
          <p:cNvPicPr/>
          <p:nvPr/>
        </p:nvPicPr>
        <p:blipFill>
          <a:blip r:embed="rId1"/>
          <a:stretch/>
        </p:blipFill>
        <p:spPr>
          <a:xfrm>
            <a:off x="1752480" y="3429000"/>
            <a:ext cx="5257800" cy="419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6:32:45Z</dcterms:created>
  <dc:creator>VUFSD</dc:creator>
  <dc:description/>
  <dc:language>en-US</dc:language>
  <cp:lastModifiedBy>VUFSD</cp:lastModifiedBy>
  <dcterms:modified xsi:type="dcterms:W3CDTF">2009-05-11T16:42:00Z</dcterms:modified>
  <cp:revision>11</cp:revision>
  <dc:subject/>
  <dc:title>Slide 1</dc:title>
</cp:coreProperties>
</file>